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C890-3A98-4EF5-8003-911FD5E3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300854-9D4B-47B0-B5C1-36ED6EE550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0F9-BC8F-4B7F-8C72-A134377E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1EA-5950-4A5A-8C7F-23EBA13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448-A28F-454F-BB9E-3CFCEB5F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6B7-69DA-4B62-8A2C-CC6789A3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ABD8-2EA0-4810-9193-09389497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EDD-B713-46AA-824A-7A685D1E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828-F6CA-4D0A-8594-072EA90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267B-5447-49B6-8B85-A5B03AD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612-972F-4038-9550-23C2FC01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292C-9BDB-4804-9A4A-E78636E5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FC2-EF67-4E06-918A-63852C0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87E-7F2C-44C5-BCCD-70FEAA9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D6EF-8E82-4720-8B32-BBFAEB8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9930-82B8-4D73-8E3D-2964B3F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FEBD-82AA-4D5D-B249-A4BC982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733-5BDB-400F-A4CC-83BF6DDA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9B10-9E13-4864-AB7B-47E402AC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7358-6C7B-4DC1-B978-59A78BEE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3C1C-B5C6-4120-AA81-B97CDD1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E6C8-7B2C-4EFB-AFCC-FB5F8DA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0884-A562-402A-9834-068E3164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DBB6-E380-4815-BFBE-128BFB2F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002-758C-48BA-847E-0B3D9AD6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A351-8FC1-4152-B305-DAD1B09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C280-48C9-4180-938F-755CF7A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8680-0FCB-418B-91C0-D775260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43C7B-6EDE-4521-B2E9-A81A96F1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86C4-4785-40D2-B5B4-3D20549A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4346-E260-4A44-ABDD-097E322D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2472-B731-408E-AB1F-A29F6B1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442-7944-4995-A591-AF4DD30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45A-CE99-43F6-B6AB-2050236C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3B1-76CB-4F06-A2FE-8EB308E4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101-2961-4FEC-B800-2D35036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BE7-25FE-4FA8-8218-313D662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C8D-93BF-4F9A-9E9F-7046013B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243-9FC7-4C17-AB8A-F0244E83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744-FEC7-441E-9F15-FD435AC5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EDD-56B6-459C-9DCC-D2912EB1E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is an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electromagne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1528" r="0" b="0"/>
          <a:stretch/>
        </p:blipFill>
        <p:spPr>
          <a:xfrm>
            <a:off x="533520" y="1295280"/>
            <a:ext cx="81532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electricity and magnetism relat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discover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 current produces a magnetic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have fields, poles, and do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an electromagne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8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idea behind an electromagnet is extremely simple: By running electric current through a wire, you can create a magnetic fiel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using this simple principle, you can create all sorts of things, including motors, solenoids, read/write heads for hard disks and tape drives,  and speak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954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thing to think about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difference between a permanent magnet and an electromag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magnets come from nature and are attracted to any metal which contains ir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s are temporary, their magnetism is only present when electricity is applied to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akes electromagnets very useful for different applic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tomy of an Electromag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omagnet starts with a battery (or some other source of power) and a wire. What a battery produce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collect at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d of the battery, and, if you let them, they will gladly flow to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d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s will f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negative side of the battery to the positive side as fast as they c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mall magnetic field is gener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wire. It is this small magnetic field that is the basis of an electromagne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s of Electromagne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962520" cy="376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9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670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solenoid? </a:t>
            </a: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copper wire is coiled, 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il of w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olenoi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lectricity passes through the coil, a magnetic field is produced.  (SEE THE PICTURE) The magnetic field set up a by a solenoid (coil of wire) carrying a current is very similar to the magnetic field of a bar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UsingEnM_Solenoid_sx7082b3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28600" y="22860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ectromagnet Field Lin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quick review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anent magnets never loose their magnetism unless destroy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magnetism is created when electrons flow within an electrical circu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magnets can be used for a number of different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enoids are current carrying coils of wi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is a current carrying coil of wires call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5638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n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ic P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romagn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03:53Z</dcterms:created>
  <dc:creator>ccps5500</dc:creator>
  <dc:description/>
  <dc:language>en-US</dc:language>
  <cp:lastModifiedBy>ccps5500</cp:lastModifiedBy>
  <dcterms:modified xsi:type="dcterms:W3CDTF">2011-04-17T15:04:14Z</dcterms:modified>
  <cp:revision>1</cp:revision>
  <dc:subject/>
  <dc:title>What is an electromagnet?</dc:title>
</cp:coreProperties>
</file>